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269-D197-47DA-8C03-779355F1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FDA-AA72-45E4-9C50-B478E25D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2422-9CFC-4094-9AC9-BDBCC46A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9BD-2707-400E-B3C8-2B0FC549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1D56D-61B1-49C1-9925-D7946BD6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C74F1-CC59-4E46-8063-8AD01A73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758DE-9101-474D-A44A-2E76EDE1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897D5-E129-4EC1-9154-D78F6B0E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3EB3B-20C7-45C2-97C7-6AB48F36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003BB-E51E-42C2-8FF4-62B8EC9C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818B4-5F08-4BE2-9C3A-F35ECCB1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007-D335-4B26-A379-664AFBB8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8FDEF-4908-42D6-923A-B8E031BF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72FDD-A0E6-4450-8202-BC121000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803AA-7968-442B-850A-A9D0502B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3E0A0-6A31-4D85-80D7-85C3E81C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EEF12-D9BD-42E7-9369-7E8D72B8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A896-1A68-466C-AE5E-26AD1044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8C7-5D37-4DD1-8DF7-F9A669AE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C1E-822A-44DE-A6C8-E8FB94E0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CDA-B300-4702-82F6-57430180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61B-38A4-4C35-B62B-712E7EE3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D0C-ADD0-4448-9545-B1F673DA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894-0D87-4345-9A4A-81F995BF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2FEB-0151-43F7-AC88-6568ED367B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801B-5369-44AC-9EC8-08F2DFF3A3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Till There Was No Remedy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(The Divided Kingdom)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6, Lesson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.28-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Kings 19:1  - 20: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ijah Flees to Mount Horeb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ings 19:1-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ab tells Jezebel what Elijah had done; she is enraged, and threatens to take away his life, v. 1-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leaves Jezreel, and comes to Beer-sheba, and thence to the wilderness, where he is fed and encouraged by an angel, v. 3-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complaint, and the vision by which God instructs him, v. 10-1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is sent to Damascus, in order to anoint Hazael king over Syria, and Jehu king over Israel, v. 15-1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148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791320" y="1255680"/>
            <a:ext cx="3124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ijah went back to where the covenant had been made, Mt. Horeb – where Moses talked to God, and where God made His covenant with Isra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this map shows, the site of Mt. Sinai (Horeb) has long been an issue of uncertain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36360"/>
            <a:ext cx="9144000" cy="5937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410080" y="472428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416"/>
                </a:solidFill>
                <a:latin typeface="Arial"/>
              </a:rPr>
              <a:t>Notice the various roads of possible travel for Elija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isha, The Success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Kings 19:19-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jah and Elisha M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sha becomes Elijah’s attend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ng the cloak or man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amaria is attacked by the Syrian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 Kings 20:1-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n-hadad, king of Syria, and thirty-two kings, besiege Samaria, v.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sends an insulting message to Ahab, and insists on pillaging the whole city, v. 2-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elders of Israel counsel the king not to submit to such shameful conditions, v. 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sends a refusal to Ben-hadad; who, being enraged, vows revenge, v. 9-1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rophet comes to Ahab, and promises him victory, and gives him directions how he should order the battle, v. 13-1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yrians are defeated, and Ben-hadad barely escapes, v. 20-2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od’s Help To Israe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not to give approval to Ahab or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o confirm once more “that you may know that I am the Lor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God could handle the Syrians and bring about their defeat, He could also do the same to the rebellious Israelites at any time He cho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13:37:06Z</dcterms:created>
  <dc:creator>Terry W. Benton</dc:creator>
  <dc:description/>
  <dc:language>en-US</dc:language>
  <cp:lastModifiedBy>Frank D Vines</cp:lastModifiedBy>
  <dcterms:modified xsi:type="dcterms:W3CDTF">2005-07-22T20:50:49Z</dcterms:modified>
  <cp:revision>2</cp:revision>
  <dc:subject/>
  <dc:title>Till There Was No Remedy (The Divided Kingdom)</dc:title>
</cp:coreProperties>
</file>